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90C-61F1-4C01-A6A6-198E84AC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79D-9DFF-4E10-B651-3E927A52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933-6D45-4A9C-9CFF-0E2FE810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360-2063-4C37-90C7-1818675F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74FE-488D-4F60-AAF6-476004F2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4EA1-846F-47F2-B2D6-302DFFFE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10F9-4334-417B-8D52-9F1D3E29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0100-C685-4E41-A9CD-CBCF7250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FAB1-6838-47DB-A998-BA0E33DE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F744-7F85-4B9A-8668-D246A8BD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4FF0-744D-4ABC-958B-0197E6DB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83B-8286-4168-BD2F-985E5789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4357-08C1-4888-BF85-393F3325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CA87-E47D-45B2-81CA-B5D7907A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6C06-36B1-4CB1-A685-5406A8E0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9301-DE32-4001-BF15-53CBE263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18C3-CAB5-4359-98BA-DEED5A5C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76FB4-994B-437E-9A59-5CE12DEB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645B7-772C-41DC-B780-7C164361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F534-1A9C-4846-83EB-35BC6D5C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2EC3-7C1C-4342-BFA9-8C1DE00C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2DF0-80F5-4ED5-ABF7-C97B5DBB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BF0-F8F0-440C-875D-6742A6E0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3DE62-F663-402F-828D-C9BFAA1D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67F69-9704-41CE-93FB-C834DFDE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A9AFD-F724-4F90-94B7-00DAA304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3D520-9027-4125-B217-B95AE3A2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A751A-0FC0-491C-A6AA-D9D231F9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86A9-3C95-4017-8FB0-957BFF1F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18044-5DF6-4BCC-B83E-96D8B893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9CC02-A35B-427D-8675-54558E77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F79CF-B49D-43E9-9C7D-C2A9C85A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276D9-78AE-4E37-B727-4BFC5F66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B57-5C1B-49AA-AECE-65CC411B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69736-C05F-40F4-9D3E-209BC3EE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37411-4509-4AB5-AD59-142B81AA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4A42B-41E7-4DB4-A305-03C67E59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88451-8304-4929-8DFD-788A20AA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FBACA-397A-4F21-95A4-88200271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52F39-3AD2-43A5-BE00-D02464DC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9CA83-DD80-4FDB-AF16-D3B6DF57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03663-65CA-4233-83ED-48CB94A8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6127D-E49A-4FC9-A0B2-D6BD7460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11B5F-A200-4FEC-81F6-9A9B4E40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A31-20BD-447C-869F-838C91A1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0551F-81B8-479C-9E4A-DAE8108E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27619-D326-4D44-B9A5-FF3D8421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668CD-176E-4EFF-AAE0-4083A1B0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0A38B-E787-45FD-883F-AA76F60E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9E379-F29E-4AB6-9161-037B6E40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4E5D7-82E9-4C0E-8F0B-966A05F0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CE541-4634-4BEB-8A89-D8DFA738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2A79B-D72D-4CE1-BE34-9EB05CFD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866BA-4E60-4A84-A3A0-A9494FBF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E05FB-7DCC-4345-BF2E-B05545C7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A04-E5EB-4A83-87CF-9982E382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326EF-7572-4794-B99C-5E54D08A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09BC2-6389-4751-93B8-8D88E3C2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6126E-DE7A-46F2-B700-E60568C4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BC6DA-CA52-4629-8F2F-D59D4B6A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B0111-AC33-45C9-A4B4-342DDDE6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76B34-0BB3-462F-BD7D-F94E8BF7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3DBE8-5B5E-4882-AAF6-748CA905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32E2B-86C8-48BB-A7E5-565037D3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1306C-2BF0-41F0-860D-D2C9B1DD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0A720-2271-4A0B-9E5C-9C2EDE36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A15-78BE-43D6-AB53-4C383929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57991-B645-4EBB-AC6E-BAC62EEB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F0E26-9A07-44E0-A596-5278F1BC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86AA8-4883-44DB-B706-B332E293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097BF-E94B-4CAE-808F-D415F6BE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C2FB2-7B77-4F58-8086-4651E64B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466C1-A825-4BEA-AFFC-829C81E0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9A84C-2C6E-48EB-8554-77B735D4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32353-50B9-4B9C-AB88-33587BF8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FEFBB-B398-4F5D-9113-E1DC5C5E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4636D-97C5-4BF5-9AC8-8CC122B6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41D-9554-4C65-B938-59F910F4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50541-F0A1-4F7E-AB7C-72166252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0D926-D7C6-43B4-A5B9-113CCC5A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8B2D0-08B1-4CC8-A9ED-FF64E499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70991-6BDB-4345-B98B-135F7049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4F92F-EE31-4520-B91E-8866AD6C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F60-9082-49E7-8993-23CA456C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8f3e7">
              <a:alpha val="33000"/>
            </a:srgbClr>
          </a:solidFill>
          <a:ln cap="rnd" w="3240">
            <a:solidFill>
              <a:srgbClr val="22a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bae9b2"/>
            </a:solidFill>
            <a:miter/>
          </a:ln>
          <a:effectLst>
            <a:outerShdw dist="12600" dir="5400000" blurRad="0" rotWithShape="0">
              <a:srgbClr val="257b05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bfe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82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8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8f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8f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AEC2-4F83-4DDE-99F4-53472A650559}" type="slidenum">
              <a:rPr b="0" lang="ru-RU" sz="1200" spc="-1" strike="noStrike">
                <a:solidFill>
                  <a:srgbClr val="1c8f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bfeab0"/>
          </a:solidFill>
          <a:ln w="0">
            <a:noFill/>
          </a:ln>
          <a:effectLst>
            <a:outerShdw dist="38160" dir="10800000" blurRad="0" rotWithShape="0">
              <a:srgbClr val="1a450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8f3e7">
              <a:alpha val="33000"/>
            </a:srgbClr>
          </a:solidFill>
          <a:ln cap="rnd" w="3240">
            <a:solidFill>
              <a:srgbClr val="22a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bae9b2"/>
            </a:solidFill>
            <a:miter/>
          </a:ln>
          <a:effectLst>
            <a:outerShdw dist="12600" dir="5400000" blurRad="0" rotWithShape="0">
              <a:srgbClr val="257b05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bfe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bfeab0"/>
          </a:solidFill>
          <a:ln w="0">
            <a:noFill/>
          </a:ln>
          <a:effectLst>
            <a:outerShdw dist="38160" dir="10800000" blurRad="0" rotWithShape="0">
              <a:srgbClr val="1a450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46c8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82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8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8f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8f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1225-ACF5-44BA-BA0E-61E7339A1953}" type="slidenum">
              <a:rPr b="0" lang="ru-RU" sz="1200" spc="-1" strike="noStrike">
                <a:solidFill>
                  <a:srgbClr val="1c8f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bfe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bfeab0"/>
          </a:solidFill>
          <a:ln w="0">
            <a:noFill/>
          </a:ln>
          <a:effectLst>
            <a:outerShdw dist="38160" dir="10800000" blurRad="0" rotWithShape="0">
              <a:srgbClr val="1a450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46c8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82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8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8f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8f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1A96-D9FB-4C90-93EA-CCA7EF2D8F11}" type="slidenum">
              <a:rPr b="0" lang="ru-RU" sz="1200" spc="-1" strike="noStrike">
                <a:solidFill>
                  <a:srgbClr val="1c8f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82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8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8f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8f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CD53-9FF0-4EC4-B3D1-C437108CF4A1}" type="slidenum">
              <a:rPr b="0" lang="ru-RU" sz="1200" spc="-1" strike="noStrike">
                <a:solidFill>
                  <a:srgbClr val="1c8f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bfe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bfeab0"/>
          </a:solidFill>
          <a:ln w="0">
            <a:noFill/>
          </a:ln>
          <a:effectLst>
            <a:outerShdw dist="38160" dir="10800000" blurRad="0" rotWithShape="0">
              <a:srgbClr val="1a450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82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8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8f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8f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F24B-800B-404B-B273-DAB38AB45CA0}" type="slidenum">
              <a:rPr b="0" lang="ru-RU" sz="1200" spc="-1" strike="noStrike">
                <a:solidFill>
                  <a:srgbClr val="1c8f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82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8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8f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8f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AC4F-7FC0-4A83-A386-817EA429DC1B}" type="slidenum">
              <a:rPr b="0" lang="ru-RU" sz="1200" spc="-1" strike="noStrike">
                <a:solidFill>
                  <a:srgbClr val="1c8f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27bb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428f26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82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8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8f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8f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B843-A0EC-428F-A87C-6E23D4AB45C9}" type="slidenum">
              <a:rPr b="0" lang="ru-RU" sz="1200" spc="-1" strike="noStrike">
                <a:solidFill>
                  <a:srgbClr val="1c8f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4055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ГКОУ Волгоградский ППМС-центр</a:t>
            </a:r>
            <a:br>
              <a:rPr sz="2200"/>
            </a:br>
            <a:r>
              <a:rPr b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Центральная психолого-медико-педагогическая комиссия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РЕКОМЕНДАЦИИ ПО ОКАЗАНИЮ</a:t>
            </a:r>
            <a:br>
              <a:rPr sz="2200"/>
            </a:br>
            <a:r>
              <a:rPr b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ПСИХОЛОГО-ПЕДАГОГИЧЕСКОЙ ПОМОЩИ ДЕТЯМ-ИНВАЛИДАМ </a:t>
            </a:r>
            <a:br>
              <a:rPr sz="2200"/>
            </a:br>
            <a:r>
              <a:rPr b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В РАМКАХ РЕАЛИЗАЦИИ ИПРА В ОБРАЗОВАТЕЛЬНОЙ ОРГАНИЗАЦИИ</a:t>
            </a:r>
            <a:br>
              <a:rPr sz="2900"/>
            </a:br>
            <a:br>
              <a:rPr sz="29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200" spc="-1" strike="noStrike">
              <a:solidFill>
                <a:srgbClr val="008200"/>
              </a:solidFill>
              <a:latin typeface="Corbel"/>
            </a:endParaRPr>
          </a:p>
        </p:txBody>
      </p:sp>
      <p:pic>
        <p:nvPicPr>
          <p:cNvPr id="319" name="Picture 6" descr="i?id=24957443&amp;tov=5"/>
          <p:cNvPicPr/>
          <p:nvPr/>
        </p:nvPicPr>
        <p:blipFill>
          <a:blip r:embed="rId1"/>
          <a:stretch/>
        </p:blipFill>
        <p:spPr>
          <a:xfrm>
            <a:off x="3857760" y="3857760"/>
            <a:ext cx="271620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00"/>
                </a:solidFill>
                <a:latin typeface="Corbel"/>
              </a:rPr>
              <a:t>Показатели развития ребенка, выносимые для обсуждения консилиума:</a:t>
            </a:r>
            <a:br>
              <a:rPr sz="2200"/>
            </a:br>
            <a:endParaRPr b="0" lang="en-US" sz="24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71640" y="907920"/>
            <a:ext cx="7921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Corbel"/>
              </a:rPr>
              <a:t>Педагогом-психологом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ая успешность, включающая в себя учебную мотивацию, учебную самооценку, удовлетворенность своей учебной деятельностью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эмоциональных отношений ребенка к семье, сверстникам, школ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ое состояние ребенка (работоспособность, эмоциональная стабильность  и др.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психологический статус ребенка в семье, среди сверстников, значимых взрослых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познавательных процессов и их произвольнос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ыраженных признаков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00"/>
                </a:solidFill>
                <a:latin typeface="Corbel"/>
              </a:rPr>
              <a:t>Показатели развития ребенка, выносимые для обсуждения консилиума:</a:t>
            </a:r>
            <a:br>
              <a:rPr sz="2200"/>
            </a:br>
            <a:endParaRPr b="0" lang="en-US" sz="24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971640" y="907920"/>
            <a:ext cx="7921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Corbel"/>
              </a:rPr>
              <a:t>Педагогом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ая деятельность обучащегося в обучении и воспитании (глубина и прочность усвоения материала, пробелы в знаниях, адаптивность к различным формам и методам обучения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личности обучащегося (уровень воспитанности, взаимоотношения со сверстниками, взрослыми, статус в детском коллективе, интересы, увлечения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прогноз учебных возможносте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помощи со стороны участников педагогического консилиум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00"/>
                </a:solidFill>
                <a:latin typeface="Corbel"/>
              </a:rPr>
              <a:t>Показатели развития ребенка, выносимые для обсуждения консилиума:</a:t>
            </a:r>
            <a:br>
              <a:rPr sz="2200"/>
            </a:br>
            <a:endParaRPr b="0" lang="en-US" sz="24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71640" y="907920"/>
            <a:ext cx="7921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Corbel"/>
              </a:rPr>
              <a:t>Учителем-логопедом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ая речь (звукопроизношение, состояние словаря, грамматический строй речи, связная речь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ая речь (состояние чтения и письм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й окружение ребенка (недостатки речи у членов семьи, двуязычие и др.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 с логопедом в дошкольном возраст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Corbel"/>
              </a:rPr>
              <a:t>Социальным педагогом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форм семейного воспита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й климат в семь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ероприятия психолого-педагогического сопровождения</a:t>
            </a:r>
            <a:endParaRPr b="0" lang="en-US" sz="24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971640" y="907920"/>
            <a:ext cx="7921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ленная диагностика детей с ОВЗ специалистами сопровождения (дефектологом, логопедом, психологом, социальным педагогом, учителем) с целью выявления индивидуальных особенностей психофизического развития и возможностей освоения образовательной программ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й ситуации развития, особенностей семейного воспитания с целью оказания социальной и педагогической  помощи семье, воспитывающей ребенка-инвалид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ндивидуального образовательного маршрута по результатам обследования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е специалистами сопровождения индивидуальной коррекционно-развивающей  программы на каждого ребенка с ОВЗ в соответствии с его психофизическими особенностями развит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ероприятия психолого-педагогического сопровождения</a:t>
            </a:r>
            <a:endParaRPr b="0" lang="en-US" sz="24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71640" y="907920"/>
            <a:ext cx="7921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лизация индивидуальной коррекционно-развивающей  программы через систему индивидуальных и подгрупповых занятий со специалистами (дефектологом, логопедом, психологом и др.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еское наблюдение за ребенком (группой детей) в ходе воспитательно-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лизация адаптированной основной образовательной программы или адаптированной образовательной программы для обучающихся с ОВЗ учителями при поддержке специалистов сопровожд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сновной образовательной программы по предметам основного цикла для детей с ОВЗ (для детей, уровень интеллектуального развития приближен к уровню нормативно развивающихся детей); составление индивидуального учебного (образовательного) план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ероприятия психолого-педагогического сопровождения</a:t>
            </a:r>
            <a:endParaRPr b="0" lang="en-US" sz="24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71640" y="907920"/>
            <a:ext cx="7921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озитивного взаимодействия детей с ОВЗ с нормально развивающимися сверстник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ение родителей педагогическим технологиям сотрудничества со своим ребенком, приемам и методам воспитания и обучения, оказания им психологической поддерж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ация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го сопровождающегося  оформляется Личное дело (Карта сопровождения) в которую входит Программа п.-пед. сопровождения как документ, характеристики, результаты динамического наблюдения за реализацией Программы сопровождения и ИПРА – мониторинг эффектив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Программа коррекционной работы</a:t>
            </a:r>
            <a:endParaRPr b="0" lang="en-US" sz="24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71640" y="907920"/>
            <a:ext cx="7921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коррекционной работы является основным компонентом АООП НОО и разрабатывается  образовательной организацией в  (в лице ПМПк или службы сопровождени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сопровождения в своей деятельности обязательно руководствуются  рекомендациями ПМПК и ИПР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640" y="21420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Психолого-педагогическая коррекция</a:t>
            </a:r>
            <a:br>
              <a:rPr sz="2400"/>
            </a:br>
            <a:endParaRPr b="0" lang="en-US" sz="24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71640" y="907920"/>
            <a:ext cx="7921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6a5650"/>
                </a:solidFill>
                <a:uFillTx/>
                <a:latin typeface="Times New Roman"/>
                <a:ea typeface="Times New Roman"/>
              </a:rPr>
              <a:t>Закономерности нарушенного развит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заимодействия с окружающей средой, нарушения личностного развит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ньшая скорость приема и переработки информ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ий объем информ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рушения речевого развит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ки развития произвольных движен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медленный темп психического развития в цело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утомляемость, высокая истощаемо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71640" y="21420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Психолого-педагогическая коррекция</a:t>
            </a:r>
            <a:br>
              <a:rPr sz="2400"/>
            </a:br>
            <a:endParaRPr b="0" lang="en-US" sz="24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71640" y="907920"/>
            <a:ext cx="7921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6a5650"/>
                </a:solidFill>
                <a:uFillTx/>
                <a:latin typeface="Times New Roman"/>
                <a:ea typeface="Times New Roman"/>
              </a:rPr>
              <a:t>Виды психолого-педагогической коррек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и развитие высших психических функций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эмоционально-волевых нарушений и  поведенческих реакций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ых недостатков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взаимоотношений в семье, детском коллективе, с учителям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 к обучению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формирование социально-бытовых навыков и других навык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71640" y="21420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Психолого-педагогическая коррекция</a:t>
            </a:r>
            <a:br>
              <a:rPr sz="2400"/>
            </a:br>
            <a:endParaRPr b="0" lang="en-US" sz="24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71640" y="907920"/>
            <a:ext cx="7921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6a5650"/>
                </a:solidFill>
                <a:uFillTx/>
                <a:latin typeface="Times New Roman"/>
                <a:ea typeface="Times New Roman"/>
              </a:rPr>
              <a:t>Педагогическая коррекц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оррекция педагогическа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 учебно-воспитательных мер, которые направлены н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доление у детей отклонений, связанных с психическими процессами: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ми, эмоциональными и волевы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 педагогической коррекци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относят все формы дополнительных специальных занятий, репетиторство. Содержание педагогической коррекции - это возврат к неусвоенным разделам программы, без которых ученик не может успешно двигаться дальше, то есть повторное изучение плохо понятого учебного материала. Педагог-репетитор помогает ребенку всеми имеющимися в его распоряжении педагогическими приемами сделать непонятное понятным и прочно запомнившимс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1640" y="-108000"/>
            <a:ext cx="7858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008200"/>
              </a:solidFill>
              <a:latin typeface="Times New Roman"/>
              <a:ea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71640" y="285840"/>
            <a:ext cx="79214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современных условиях интенсивного развития системы специальной психолого- педагогической помощи детям с ограниченными возможностями здоровья идёт поиск организационных форм такой помощи, наиболее отвечающих современным социокультурным и экономическим условиям жизни страны, а также удовлетворяющих особые образовательные и реабилитационные потребности детей и подростков с отклонениями в развитии, в том числе детей-инвалид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71640" y="21420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Психолого-педагогическая коррекция</a:t>
            </a:r>
            <a:br>
              <a:rPr sz="2400"/>
            </a:br>
            <a:endParaRPr b="0" lang="en-US" sz="24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71640" y="907560"/>
            <a:ext cx="792144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6a5650"/>
                </a:solidFill>
                <a:uFillTx/>
                <a:latin typeface="Times New Roman"/>
                <a:ea typeface="Times New Roman"/>
              </a:rPr>
              <a:t>Педагогическая коррекц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едагогическая коррекци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ополнительные занятия, проводимые педагогом для усвоения требуемых программой знаний, умений, навыков, которые ребенок не может усвоить самостоятельно, когда большинство детей с этим справляютс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orbel"/>
              </a:rPr>
              <a:t>Иногда причиной неуспеваемости могут быть нарушения в развитии интеллектуальной или личностной сферы, и тогда необходима еще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orbel"/>
              </a:rPr>
              <a:t>психологическая коррекция</a:t>
            </a: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Психологическая коррек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и неуспеваемост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воздействие на индивидуальный механизм приобретения знаний у данного ребенка, то есть на развитие его познавательных способностей вообще, а не усвоение отдельной дисциплин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71640" y="21420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Психолого-педагогическая коррекция</a:t>
            </a:r>
            <a:br>
              <a:rPr sz="2400"/>
            </a:br>
            <a:endParaRPr b="0" lang="en-US" sz="24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71640" y="907920"/>
            <a:ext cx="7921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6a5650"/>
                </a:solidFill>
                <a:uFillTx/>
                <a:latin typeface="Times New Roman"/>
                <a:ea typeface="Times New Roman"/>
              </a:rPr>
              <a:t>Педагогическая коррекц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и групповые коррекционные занят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еразвивающей и предметной направленности по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ю уровня общего развития обучающихс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олнению пробелов предшествующего развития и обучен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ю недостаточно освоенных учебных умений и навыков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и отклонений в   развитии познавательной сферы, речи и поведе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направленной подготовке к восприятию нового учебного материа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71640" y="21420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Психолого-педагогическое консультирование</a:t>
            </a:r>
            <a:endParaRPr b="0" lang="en-US" sz="28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71640" y="907920"/>
            <a:ext cx="7921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6a5650"/>
                </a:solidFill>
                <a:uFillTx/>
                <a:latin typeface="Times New Roman"/>
                <a:ea typeface="Times New Roman"/>
              </a:rPr>
              <a:t>Основные направления консультиров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 родителей   по вопросам обучения и воспитания детей с ОВЗ,  их социально-трудовой адаптации, необходимости оказания им  своевременной  коррекционной помощ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ультативная помощь семье в вопросах выбора стратегии воспитания и приёмов коррекционного обучения ребёнка с ограниченными возможностями здоровь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71640" y="21420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Психолого-педагогическое консультирование</a:t>
            </a:r>
            <a:endParaRPr b="0" lang="en-US" sz="28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71640" y="907920"/>
            <a:ext cx="7921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6a5650"/>
                </a:solidFill>
                <a:uFillTx/>
                <a:latin typeface="Times New Roman"/>
                <a:ea typeface="Times New Roman"/>
              </a:rPr>
              <a:t>Формы консультативно-просветительской работы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Лекции, беседы, «круглые столы», анкетирование, тренинги, открытые уроки/занятия и др. С родителями нормально развивающихся детей также необходимо вести консультативно-просветительскую работу, в том числе по формированию толерантного отношения к детям с ОВЗ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00080" y="-357120"/>
            <a:ext cx="78580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971640" y="907920"/>
            <a:ext cx="7921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Благодарим за внимание !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8580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8200"/>
              </a:solidFill>
              <a:latin typeface="Times New Roman"/>
              <a:ea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99720" y="0"/>
            <a:ext cx="7921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пециальной организованной формой изучения детей в образовательной организации является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психолого-педагогическая служба,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предназначенная содействовать эффективности учебно-воспитательного процесса, предоставляя педагогам диагностические данные об индивидуальных особенностях и возможностях ребенка, причинах отклонении в его поведении и учении, помогая в выработке оптимальных мер воздействия на обучающегос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858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Психолого –медико –педагогический консилиум – одна из </a:t>
            </a:r>
            <a:r>
              <a:rPr b="1" i="1" lang="ru-RU" sz="24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моделей</a:t>
            </a:r>
            <a:r>
              <a:rPr b="1" lang="ru-RU" sz="24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 службы сопровождения в образовательной организации</a:t>
            </a:r>
            <a:endParaRPr b="0" lang="en-US" sz="24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71640" y="1499760"/>
            <a:ext cx="7921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just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МПк является одной из форм взаимодействия специалистов образовательного учреждения, объединяющихся для психолого-медико-педагогического сопровождения обучающихся, воспитанников с отклонениями в развитии и/или состояниями декомпенс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дним из основных условий, способствующих максимально полному включению ребенка-инвалида в образовательную среду, освоения им образовательной программы является комплексная деятельность специалистов, направленная на решение задач коррекции, развития, обучения, воспитания, социализ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858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Цель    ПМПк:</a:t>
            </a:r>
            <a:endParaRPr b="0" lang="en-US" sz="24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71640" y="1213920"/>
            <a:ext cx="7921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беспечение диагностического, коррекционного психолого-медико-педагогического сопровождения обучающихся (воспитанников) с отклонениями в развитии и/или состоянии декомпенсации, в соответствии со специальными образовательными потребностями, возрастными и индивидуальными особенностями, состоянием соматического и нервно-психического здоровь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наличия объективных обстоятельств (например, малокомплектная школа) при отсутствии ПМПк указанные функции возлагаются на педагогический совет общеобразовательной учрежде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858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00"/>
                </a:solidFill>
                <a:latin typeface="Times New Roman"/>
                <a:ea typeface="Times New Roman"/>
              </a:rPr>
              <a:t>С о с т а в    П М П к</a:t>
            </a:r>
            <a:endParaRPr b="0" lang="en-US" sz="24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71640" y="1285920"/>
            <a:ext cx="7921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48040" indent="-191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П р е д с е д а т е л ь ПМПк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48040" indent="-191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К о о р д и н а т о р (ответственный) за исполнение мероприятия псих-пед. сопровождения и ИП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48040" indent="-191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П е д а г о г (учитель, воспитатель) с большим опытом рабо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48040" indent="-191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П е д а г о г (учитель (воспитатель) общеобразовательных или коррекционных классов, групп), представляющий ребенка на ПМПк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48040" indent="-191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У ч и т е л ь – д е ф е к т о л о г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48040" indent="-191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У ч и т е л ь - л о г о п е д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48040" indent="-191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П е д а г о г  -  п с и х о л о г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48040" indent="-191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С о ц и а л ь н ы й  п е д а г о г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48040" indent="-191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В р а ч (медсестра) образовательного учрежд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48040" indent="-191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Д р у г и е  с п е ц и а л и с т 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48040" indent="-191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48040" indent="-191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48040" indent="-191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48040" indent="-191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48040" indent="-191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48040" indent="-191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48040" indent="-191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48040" indent="-191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858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200"/>
                </a:solidFill>
                <a:latin typeface="Corbel"/>
              </a:rPr>
              <a:t>Специфика организации сопровождения в соответствии </a:t>
            </a: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со ступенями обучения </a:t>
            </a:r>
            <a:r>
              <a:rPr b="0" lang="ru-RU" sz="2400" spc="-1" strike="noStrike">
                <a:solidFill>
                  <a:srgbClr val="008200"/>
                </a:solidFill>
                <a:latin typeface="Corbel"/>
              </a:rPr>
              <a:t>ребенка-инвалида следующая:</a:t>
            </a:r>
            <a:br>
              <a:rPr sz="2400"/>
            </a:br>
            <a:endParaRPr b="0" lang="en-US" sz="24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99720" y="1285920"/>
            <a:ext cx="7921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 algn="just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обучения в начальной школе на первый план выступают вопросы определения готовности к обучению в школе, обеспечение адаптации к школе,  развитие познавательной и учебной мотивации, развитие самостоятельности и самоорганизации, развитие творческих способност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ходе в основную школу значимыми становятся вопросы адаптации к новым условиям обучения, поддержки в решении задач личностного и ценностно-смыслового самоопределения и саморазвития, помощь в решении личностных проблем и проблем социализации, в построении конструктивных отношений с родителями и сверстниками, профилактика неврозов, девиантного поведения и д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858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00"/>
                </a:solidFill>
                <a:latin typeface="Corbel"/>
              </a:rPr>
              <a:t>Специфика организации сопровождения в соответствии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со ступенями обучения </a:t>
            </a:r>
            <a:r>
              <a:rPr b="1" lang="ru-RU" sz="2400" spc="-1" strike="noStrike">
                <a:solidFill>
                  <a:srgbClr val="008200"/>
                </a:solidFill>
                <a:latin typeface="Corbel"/>
              </a:rPr>
              <a:t>ребенка-инвалида </a:t>
            </a:r>
            <a:br>
              <a:rPr sz="2400"/>
            </a:br>
            <a:endParaRPr b="0" lang="en-US" sz="24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99720" y="1285920"/>
            <a:ext cx="7921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8360" indent="-223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-11 классе важна помощь в профессиональном самоопределении, развитии психосоциальной компетентности, профилактика девиантного поведения, сопровождение обучающихся инвалидов в рамках подготовки и сдачи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пределении задач сопровождения образования конкретного ребенка-инвалида необходимо учитывать индивидуальную ситуацию развития (структуру дефекта, возраст (класс), индивидуальные особенности ребенка, место, занимаемое ребенком в системе взаимоотношений в группе, классе, уровень развития адаптивных способностей и др.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lnSpc>
                <a:spcPct val="100000"/>
              </a:lnSpc>
              <a:spcBef>
                <a:spcPts val="601"/>
              </a:spcBef>
              <a:buClr>
                <a:srgbClr val="0f730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8360" indent="-223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f730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00080" y="21384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8200"/>
                </a:solidFill>
                <a:latin typeface="Corbel"/>
              </a:rPr>
              <a:t>Показатели развития ребенка, выносимые для обсуждения консилиума:</a:t>
            </a:r>
            <a:br>
              <a:rPr sz="2200"/>
            </a:br>
            <a:endParaRPr b="0" lang="en-US" sz="2200" spc="-1" strike="noStrike">
              <a:solidFill>
                <a:srgbClr val="008200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71640" y="1357200"/>
            <a:ext cx="79214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Corbel"/>
              </a:rPr>
              <a:t>Медицинским работником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и гармоничность физического развития, физкультурная групп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й возрас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органов зрения, слуха, опорно-двигательной систем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ая заболеваемости за последний год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 риска (наличие в прошлом заболеваний или травм, которые могут сказаться на развитии ребенка; пороки развития; наличие хронических заболеваний в стадии ремиссии, способных привести к дезадапт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4:57:09Z</dcterms:created>
  <dc:creator>dom3</dc:creator>
  <dc:description/>
  <dc:language>en-US</dc:language>
  <cp:lastModifiedBy>user</cp:lastModifiedBy>
  <dcterms:modified xsi:type="dcterms:W3CDTF">2002-01-01T00:14:48Z</dcterms:modified>
  <cp:revision>239</cp:revision>
  <dc:subject/>
  <dc:title>Слайд 1</dc:title>
</cp:coreProperties>
</file>