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1-25T14:49:19.406000000" idx="1">
    <p:pos x="1986" y="12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FB5-EA31-4288-AEC9-B667B9C8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98A-A2B0-4C24-84C5-5A95232C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AE0-ADD5-4F93-8709-B4F66238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8CA-F7CC-46A2-989C-5C547EB1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1193-2ABB-48B4-B77F-AE9ED2B0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62A7-3B65-4D63-84DF-9DB12A54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B4CA-7FD1-4486-8FCF-8522677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937F-BC49-4E59-8945-62E02EE2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56C5-8441-48CE-968F-C52FB9E3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EFB1-2572-45C3-BD50-30C9EE82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7092-898E-40DE-B031-1DEC460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3F6-581F-4633-A688-B9C83E8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D8D4-80FF-425B-9883-1CEF377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B091-4677-426C-AB44-C5A55602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99A9-90EE-405C-8A23-8F8476A5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13F-A6F7-49CE-A10A-B7111400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4800-CF89-42BF-9D83-06B18917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53E-4E85-4191-9DCB-5812A0F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9A5-5C58-4062-9FA5-43179B4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C1B-848F-4A75-ABB2-B8A5F034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D39-E1B6-4CD1-8771-6CF2C19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511-8D5A-4DE5-BE75-014CFC5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FA6-CFD8-4A8C-94DB-C5ED7DD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DF8-94CA-4887-88F5-7341A0C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8F8-844C-452F-A0DB-F160007FF0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1C73-06A2-4188-9CB3-B3B7C037F3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е консультирование инвалида и его семьи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640" y="4292640"/>
            <a:ext cx="439272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ЦПМ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кин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28920" y="1425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На данном этапе формируется </a:t>
            </a:r>
            <a:r>
              <a:rPr b="0" i="1" lang="ru-RU" sz="24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первичное обобщенное представление о проблемах ребенка и его семьи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56920" y="1500120"/>
            <a:ext cx="6481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ение наличия у ребенка особенностей в психофизическом развитии, и потребности в специализирован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одителями ребёнка неадекватных моделей воспитания, которые искажают личностное развитие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ированность членов семьи  состоянием здоровья ребенка (его дефекто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межличностных конфликтов и напряжё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III </a:t>
            </a:r>
            <a:r>
              <a:rPr b="1" i="1" lang="ru-RU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 этап: Психолого-педагогическая диагностика особенностей ребенка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56920" y="1071720"/>
            <a:ext cx="64818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характера и степени нарушений у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ндивидуальных особенностей познавательной сферы ребё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контакта ребенка с родителями, адекватность его поведения, характер взаимоотношений с окружающими, определение уровня критич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IV </a:t>
            </a:r>
            <a:r>
              <a:rPr b="1" i="1" lang="ru-RU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этап: Определение модели воспитания, используемой родителями, и диагностика их личностных свойств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психологическом обследовании является добровольной процедурой и родители имеют полное право отказаться, но в таком случае определить причины внутрисемейных проблем и выбрать оптимальный способ их разрешения не представляется возмо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босновать родителям важность психологического изучения атмосферы, в которой живёт 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следует напомнить что вся полученная информация является конфиденциа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14360" y="213840"/>
            <a:ext cx="67863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обследования с целью снятия опасений и лишних сомнений родителям предлагаются простые тесты, а уже затем опросники, включающие значительное число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одители не волновались по поводу правильности их ответов, следует напомнить о том, что отвечать на вопросы нужно сразу, долго не раздумывая, а правильность выбора всегда относитель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честве домашнего задания родителям может быть предложено задание «История жизни с проблемным ребенк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родителей при первичном консультировании продолжается не более 40-50 минут. Это то время, которое большинство родителей готовы потратить на обслед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возможно назначение повторного консуль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28920" y="1425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V </a:t>
            </a:r>
            <a:r>
              <a:rPr b="1" i="1" lang="ru-RU" sz="28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этап: Формулирование психологом реальных проблем, существующих в семье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42884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родителями актуальных проблем, выявленных в ходе беседы и психологического изучения ребенка и его семь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проблемы, а при необходимости ее переформули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нцентрировать внимание родителей ребенка на действительно существенных и значимых сторонах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возможных вариантов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еадекватной позиции во восприятии ребёнка, его особенностей и возможностей, аргументируя свою позицию результатами психологического изучения ребенка, полученными в ходе диагностического об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8920" y="142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VI </a:t>
            </a:r>
            <a:r>
              <a:rPr b="1" i="1" lang="ru-RU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этап: Определение способов, с помощью которых проблемы могут быть решены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56920" y="1285920"/>
            <a:ext cx="6481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адекватной возможностям ребенка         образовательной програм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оррекционной работы с ребенком в домашних услов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адекватной модели воспит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у ребенка адекватных отношений со всеми членами семьи и другими лицами (родственниками, учителями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мнения родителей о «бесперспективности» развития ребен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я адекватных взаимоотношений между всеми членами семьи и формирования благоприятного психологического клим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одробные разъяснения по осуществлению работы с ребенком по каждому из перечисленных выше на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ь родителей о возможности отсроченного решения проблем, т. е. отдаленного результата предлагаемых к реализации м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ает о негативных последствиях в случае несоблюдения рекоменд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2892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VII </a:t>
            </a:r>
            <a:r>
              <a:rPr b="1" i="1" lang="ru-RU" sz="24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этап: Подведение итогов, резюмирование, закрепление понимания проблем в формулировке психолога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1213920"/>
            <a:ext cx="6572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я консультирование, психолог заново формулирует проблемы семьи, предлагает родителям свою интерпретацию существующих трудностей и возможные способы их разре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ирование не всегда может завершиться разрешением всех проблем семьи, поскольку их разрешение требует длительного времени и совместных усилий консультируемых и психол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о рекомендовать родителям посещение специальных психокоррекционных занятий (индивидуальных с ребенком и родителями, а также групповых для род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360" y="2637000"/>
            <a:ext cx="67327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5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28920" y="28584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Виды консультирования семьи, воспитывающей ребенка-инвалид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42720" y="1643040"/>
            <a:ext cx="7000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ирование может осуществляться в следующих направле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5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е консульт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5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консульт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50000"/>
              </a:lnSpc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ориентированное консуль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11280" y="285480"/>
            <a:ext cx="64008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е консультирование и семейное консультирование чаще осуществляются в рамках единой консультативной процеду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основных задач профориентированного консультирования членов семей выступаю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родителей в основных целях профессиональной реабилитации их ребен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ых ожиданий относительно прогноза профессиональных перспектив ребен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единой родительской позиции в отношении оказания помощи ребенку по профориентации и планированию будущей карьер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сихолого-педагогической и профориентационной компетентности родител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e4005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результатами профориентационного психодиагностического изучения молодого инвали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0200" y="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Этапы консультативного процесса</a:t>
            </a:r>
            <a:r>
              <a:rPr b="0" lang="ru-RU" sz="32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14360" y="785880"/>
            <a:ext cx="6624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I</a:t>
            </a:r>
            <a:r>
              <a:rPr b="1" i="1" lang="ru-RU" sz="27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 этап: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. Установление контакта и достижение необходимого уровня доверия и взаимопонима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II</a:t>
            </a:r>
            <a:r>
              <a:rPr b="1" i="1" lang="ru-RU" sz="2700" spc="-1" strike="noStrike">
                <a:solidFill>
                  <a:srgbClr val="ff217b"/>
                </a:solidFill>
                <a:latin typeface="Times New Roman"/>
                <a:ea typeface="Times New Roman"/>
              </a:rPr>
              <a:t> этап: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облем семьи со слов родителей или лиц, их замещающи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6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о всеми членами семьи, выяснение проблем, которые их волнуют (выслушивание и уточняющие вопросы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6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каждым взрослым отдельно (без ребенка), по его желанию (беседа с матерью и отцом обязательна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Перечень проблем, с которыми родители</a:t>
            </a:r>
            <a:br>
              <a:rPr sz="2400"/>
            </a:br>
            <a:r>
              <a:rPr b="1" lang="ru-RU" sz="24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детей с отклонениями в развитии чаще всего обращаются к психологу: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6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, возникающие в процессе обучения и воспитания ребенка (ребенок не справляется с образовательной програм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ые поведенческие реакции ребенка (негативизм, агрессия, странности, немотивированные страхи, непослушание, неуправляемое повед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рмоничные отношения со сверстниками (нормативные дети «тяготятся» общением с особенными детьми, подвергают их насмешкам и унижениям; сиблинги стесняются 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438280" y="142920"/>
            <a:ext cx="6400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ые межличностные отношения близких родственников с больным ребенком (в одних случаях родственники жалеют больного ребенка, гиперопекают и «заласкивают» его, в других - не поддерживают с больным ребенком отношения; со стороны больного ребенка может проявляться грубость или агрессия по отношению к близким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ая оценка возможностей ребенка специалистами образовательного учреждения (родители жалуются, что воспитатель или учитель недооценивает возможности их ребенка, в домашних условиях ребенок показывает лучшие результаты успеваемост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упружеских отнош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е отвержение кем-либо из родителей ребенка с отклонениями в развит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оценка матерью (отцом) отношения супруга (супруги) к ребенку с отклонениями в развитии и к нормативным детям (позитивная или негативная, возможно проявление чувств ревности, гнева, агрессии)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Цель индивидуальной беседы - сбор</a:t>
            </a:r>
            <a:br>
              <a:rPr sz="2800"/>
            </a:br>
            <a:r>
              <a:rPr b="1" lang="ru-RU" sz="2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информации о семье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5640" y="1356840"/>
            <a:ext cx="6553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историей жизни семь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ее сост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анамнестических данных о ребенке, историю его рождения и разви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документации, представленной родителями (результатов клинических и психолого-педагогических исследований, характеристик из образовательных учреждений, анализ творческих и контрольных работ ребен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09:26:06Z</dcterms:created>
  <dc:creator>Ширинкина</dc:creator>
  <dc:description/>
  <dc:language>en-US</dc:language>
  <cp:lastModifiedBy>user</cp:lastModifiedBy>
  <dcterms:modified xsi:type="dcterms:W3CDTF">2016-01-26T05:49:11Z</dcterms:modified>
  <cp:revision>25</cp:revision>
  <dc:subject/>
  <dc:title>Психолого-педагогическое консультирование ребёнка-инвалида и его семьи </dc:title>
</cp:coreProperties>
</file>